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250-91D7-4F5C-B0CC-81DC20B2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989-C00C-40BE-81B7-A447CB18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B21-D356-46A1-A428-D7F57D5F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710-1799-4D6F-A0B5-F415738B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082-1FBB-4613-BA35-B6027134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03A-739D-488C-AC4E-CF06C19D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7CF-1D12-4C03-93C3-7AA9E6C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1B2-76CB-4B53-9E5E-877EAFF1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4E8-28FB-4FCB-B9BE-C14210E2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F4A-B827-4A8E-8460-0F921FF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8EF-CBB5-4210-AA87-90BCEA5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EA4-4EE2-4C3C-9EF3-9FC343E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135A-168D-4D35-9902-DF74F5F540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76320"/>
            <a:ext cx="77724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IE" sz="4400" spc="-1" strike="noStrike" baseline="30000">
                <a:solidFill>
                  <a:srgbClr val="000000"/>
                </a:solidFill>
                <a:latin typeface="Times New Roman"/>
              </a:rPr>
              <a:t>rd Year </a:t>
            </a: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 and TY Subject choices</a:t>
            </a: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32080" y="4868640"/>
            <a:ext cx="6400800" cy="623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wards the Junior C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266920" y="635040"/>
            <a:ext cx="4730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44480"/>
            <a:ext cx="7772400" cy="58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eb. 4th – Feb.1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: M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eb. 1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– Feb 2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: Mid-Term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ar. 27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– Apr. 1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: Easter Holi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pril 1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– May 29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: Final Term,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Times New Roman"/>
              </a:rPr>
              <a:t>7 week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June 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: Junior Cert Exams beg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76360" y="5538960"/>
          <a:ext cx="6324480" cy="533160"/>
        </p:xfrm>
        <a:graphic>
          <a:graphicData uri="http://schemas.openxmlformats.org/drawingml/2006/table">
            <a:tbl>
              <a:tblPr/>
              <a:tblGrid>
                <a:gridCol w="4648320"/>
                <a:gridCol w="1676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s of class left after m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548080" y="407880"/>
            <a:ext cx="4047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66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3499920"/>
            <a:ext cx="5943600" cy="2100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ull class atte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rganised stud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earn from m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main in school until end of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548080" y="620640"/>
            <a:ext cx="4047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76080"/>
            <a:ext cx="777240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uring the ex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4343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ull school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amiliarity with exam time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tilise the full amount of exam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se toilet before exam be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Know the paper lay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Know how much time for each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ave watch/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at a good healthy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Gett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548080" y="404640"/>
            <a:ext cx="4047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05:13Z</dcterms:created>
  <dc:creator>user</dc:creator>
  <dc:description/>
  <dc:language>en-US</dc:language>
  <cp:lastModifiedBy>Mark O' Brien</cp:lastModifiedBy>
  <dcterms:modified xsi:type="dcterms:W3CDTF">2015-01-21T15:55:41Z</dcterms:modified>
  <cp:revision>5</cp:revision>
  <dc:subject/>
  <dc:title>3rd Year  and TY Subject choices Presentation</dc:title>
</cp:coreProperties>
</file>